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7FE-EBD8-4A93-8431-645E5F46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FA4-922C-4670-B999-124EAC4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B09-8D7A-4EF8-B86B-45DAD5FE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016-A1E2-49CC-8811-7BE89067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CE5-7B59-4806-8795-15C69612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530-2240-44D5-9ABA-6D95A636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2D4-8557-49F0-8F81-D2C98A87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FB2-1CF9-4CC8-9649-A4D7105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08D2-4562-4E9A-BC03-EFE2420B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153-9953-43F3-BF33-2EC67787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40F1-7D80-48CB-A508-FB4D3CB0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648-E8FF-4C2E-A27C-C02ECFB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F23F-F1E3-4D18-8A7F-FF7AE12AC7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73480" y="2492280"/>
            <a:ext cx="3640680" cy="1873440"/>
            <a:chOff x="2373480" y="2492280"/>
            <a:chExt cx="3640680" cy="1873440"/>
          </a:xfrm>
        </p:grpSpPr>
        <p:sp>
          <p:nvSpPr>
            <p:cNvPr id="42" name=""/>
            <p:cNvSpPr/>
            <p:nvPr/>
          </p:nvSpPr>
          <p:spPr>
            <a:xfrm>
              <a:off x="3378600" y="2563920"/>
              <a:ext cx="215640" cy="21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37160" y="3140280"/>
              <a:ext cx="216000" cy="215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242240" y="371628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5"/>
              <a:endCxn id="43" idx="1"/>
            </p:cNvCxnSpPr>
            <p:nvPr/>
          </p:nvCxnSpPr>
          <p:spPr>
            <a:xfrm>
              <a:off x="3562920" y="2748240"/>
              <a:ext cx="206280" cy="423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6" name=""/>
            <p:cNvCxnSpPr>
              <a:stCxn id="43" idx="5"/>
              <a:endCxn id="44" idx="1"/>
            </p:cNvCxnSpPr>
            <p:nvPr/>
          </p:nvCxnSpPr>
          <p:spPr>
            <a:xfrm>
              <a:off x="3921480" y="3324600"/>
              <a:ext cx="352440" cy="423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47" name=""/>
            <p:cNvSpPr/>
            <p:nvPr/>
          </p:nvSpPr>
          <p:spPr>
            <a:xfrm>
              <a:off x="3592080" y="249228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28320" y="308124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100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83360" y="3645000"/>
              <a:ext cx="124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100D-F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62960" y="4149720"/>
              <a:ext cx="215640" cy="216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4" idx="5"/>
              <a:endCxn id="50" idx="1"/>
            </p:cNvCxnSpPr>
            <p:nvPr/>
          </p:nvCxnSpPr>
          <p:spPr>
            <a:xfrm>
              <a:off x="4426560" y="3900600"/>
              <a:ext cx="568080" cy="281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5176440" y="407664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78 34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73480" y="2867040"/>
              <a:ext cx="129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s a member of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01880" y="344340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s a fragment of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4440" y="4005360"/>
              <a:ext cx="105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conjunc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82000" y="78408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55Z</dcterms:modified>
  <cp:revision>24</cp:revision>
  <dc:subject/>
  <dc:title>Slide 1</dc:title>
</cp:coreProperties>
</file>